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E541A-57F3-4B78-AFD4-8AAACDD16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9AE7E-E459-4E7D-8159-88EE265E8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1AABE-3540-479E-A148-0CB3C19DA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59A7C-DB2E-4AED-989A-E8924ED86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DE092-1D1A-46D4-BC69-CE9C60B2E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6ACE6-A78E-478D-8CD4-1DEA39922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24BED-3E44-43BF-8E65-668A76F3A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80D7D-150C-49CA-B758-3D99C427F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8995A-DCEC-41C6-A2C6-1DC7D5D28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5A7B0-6A10-42BA-9440-C32530177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19D5E-3FDE-4411-B425-75AD31452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7AE49-08FC-4C4E-BC15-9C1BAC37F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D6015-6E94-43D0-B572-B388757846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audio" Target="file:///tmp/home/.config/libreoffice/4/user/gallery/MSSN00740A0000%5B1%5D.wav" TargetMode="External"/><Relationship Id="rId4" Type="http://schemas.microsoft.com/office/2007/relationships/media" Target="file:///tmp/home/.config/libreoffice/4/user/gallery/MSSN00740A0000%5B1%5D.wav" TargetMode="External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file:///tmp/home/.config/libreoffice/4/user/gallery/j0214098.wav" TargetMode="External"/><Relationship Id="rId3" Type="http://schemas.microsoft.com/office/2007/relationships/media" Target="file:///tmp/home/.config/libreoffice/4/user/gallery/j0214098.wav" TargetMode="Externa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history of the buckey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0" y="61718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: Jake Golec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r. Embre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.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#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610320" y="4495680"/>
            <a:ext cx="2533680" cy="18003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6095880" y="563868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631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4"/>
                </p:tgtEl>
              </p:cMediaNode>
            </p:audio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5867280" y="0"/>
            <a:ext cx="3276720" cy="1676520"/>
          </a:xfrm>
          <a:prstGeom prst="cloudCallout">
            <a:avLst>
              <a:gd name="adj1" fmla="val -31490"/>
              <a:gd name="adj2" fmla="val 13503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19920" y="457200"/>
            <a:ext cx="2438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00800" y="30492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joy the buckey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543800" y="4572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aud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7772400" y="838080"/>
            <a:ext cx="45720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55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55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4745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55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8T22:15:26Z</dcterms:created>
  <dc:creator>John</dc:creator>
  <dc:description/>
  <dc:language>en-US</dc:language>
  <cp:lastModifiedBy>John</cp:lastModifiedBy>
  <dcterms:modified xsi:type="dcterms:W3CDTF">2008-11-18T22:25:38Z</dcterms:modified>
  <cp:revision>2</cp:revision>
  <dc:subject/>
  <dc:title>The history of the buckeyes </dc:title>
</cp:coreProperties>
</file>